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7E1-FD93-42EF-92F1-8E3490F7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6DD-74A2-4F7E-A1BC-5D224589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4B7-784B-4A8B-9DA2-7DCF48FF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897-82DB-4AF6-B0C8-6967A022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B2C2-E4EE-496A-BBBF-CD8560C3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179A-2777-4A68-8432-41DF673D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B328-ACC1-4860-A2BC-3DFB3BC6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020B-695B-4908-825A-F4AF8C00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4C4C-D7D6-4F40-8A3C-5024D4F2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126C-2F45-4D07-915A-17D5BC64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DB93-711F-4747-8301-7ED2E16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5F1-CF26-44AB-8F0F-090E8D23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EA69-3E21-4F9E-A449-CE8EBD8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1C51-D04C-476B-93BC-13199B5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CFF4-E51B-4EBC-894E-B2BDAAE5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4C2E-59E3-4AA4-A61B-FFABC3C0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0123-1064-4404-9FF6-8EA9FC05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61A1-7CC4-4B39-8746-EABCD274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4CB6-F5E6-47BC-9BAB-2C3465C9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7191-E37B-4551-A637-BC9F903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E452-D850-4867-A615-57B335C7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504A-1DCE-423D-8AE1-769B9E5C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13C-EE43-492E-B7D8-920D2F1E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035C-FE6E-411B-8C9C-F2B14E00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9C1A-6FC6-4E81-BACD-7B2E83F8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B5B2-087B-47E5-80B6-5EDF07C6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04B8-B7B2-4CE3-BB43-050DCFC1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F433-E024-4A66-A0B4-85922F30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3DF5-3CDE-4995-82A1-6D7618A7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7AE6-083A-44ED-BC0D-D5800630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08EE-FF11-4CB3-99D6-3EC1379B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7B386-7091-4F62-9A7E-E7FC5CD6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5CC76-C10D-4AE6-9C56-4DFDA924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878-7370-44EB-B88C-0D3533C2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9115D-565C-4B80-B688-81197E87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46A46-7222-4BE6-B281-707F6DDD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D8F83-D228-4AC6-9A5C-2D82989D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B9608-C618-4E32-AD79-6F9E9A61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1AB76-12F0-4DD5-A4D1-C23D3958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36B9-AC88-43C3-B365-04DF8D89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CA7D-54F9-4401-B7A1-C2BCD721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85321-6BB9-4745-88CC-311B7B6F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D6AB0-934E-4BFB-8006-3B01892C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F507D-AC94-44CA-BFAB-061EA6C7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0AB-5CB6-4B49-9ECB-6BD7F516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1E212-4856-489D-9F2B-49FECDBD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97E98-5E1A-4502-9DFC-CA282325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D3132-3C2B-4003-B12F-57FF0FBA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443EF-9385-4C67-B144-FF5A0CB5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1334-682B-4399-A92E-E52786B0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18567-12B0-4444-B14D-92AD615E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261A2-A4ED-400B-83FA-725025B4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369E0-CB82-4C93-9D38-BEA04A5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47C54-B642-4B2A-B3A6-BC5E331E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9F219-20E8-41C7-B992-F2C22A81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B94-EA59-4F29-88A1-1495C8DE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8B99F-E537-43A5-AFAB-E9C6B0E9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C37-3FAF-4D04-9CF1-69091B45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560-99CD-4E6F-9F19-09417AEB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00A-BD09-4F63-930F-91B38A4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5540-2842-4F1F-8CA5-B9272B3396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2811-9FD5-43D4-91B0-8FACFAFB37EB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9207-9113-45D9-811D-FBE6E666C20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B8FB-BF24-44C7-9FEA-2A849995EEB3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040E-1629-4700-BCAC-2EF4D5291EBA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4076640"/>
            <a:ext cx="5076720" cy="558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مسيح قام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25236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4080"/>
            <a:ext cx="5435640" cy="115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يقُم الله فيتشتّت جميع أعدائ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ea typeface="Akhbar MT"/>
              </a:rPr>
              <a:t> ويهرُب مُبغضوه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ِ وجهِه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36360" y="192240"/>
            <a:ext cx="5364000" cy="793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يَبيدوا كما يُبَدَّدُ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دخان وكما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يذوب الشمعُ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ِ وجهِ الن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9080" y="-3492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-27000"/>
            <a:ext cx="5219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كذلك يهلك الخطأة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 وجهه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يفرحُ الصدِّيقونَ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سرور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5724360" cy="86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هذا هو الي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ذي صنعه الرب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فلنفرح ولنتهلَّل ب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33:18Z</dcterms:created>
  <dc:creator>Charbel Azar</dc:creator>
  <dc:description/>
  <dc:language>en-US</dc:language>
  <cp:lastModifiedBy>ف</cp:lastModifiedBy>
  <dcterms:modified xsi:type="dcterms:W3CDTF">2006-04-17T20:18:52Z</dcterms:modified>
  <cp:revision>7</cp:revision>
  <dc:subject/>
  <dc:title>Slide 1</dc:title>
</cp:coreProperties>
</file>